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453-2DC7-42A9-9BE2-F654B195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BE5-F52E-49B4-A12A-1A1268E2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9F-7112-4812-A702-1D7AF58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D15-9C49-4B4B-A329-3CA3A40B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ED3-ECEA-460B-BDCB-9917461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C65-AC31-4C03-8296-C7C9AAC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E5E-E888-458B-888C-2DC9116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F8F-01EA-498E-8C73-B1437F9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F89-F95D-4FC8-A9DF-558976A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691-566F-4C4F-B5F5-87BEEBB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1C6-6E11-478C-9848-ED176FA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B0B-43A2-44BF-9290-043D5070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85C-B88A-4EC7-B630-989C106CC0B8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413000"/>
            <a:ext cx="8642160" cy="1666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Numere naturale de la 0 la 1000</a:t>
            </a:r>
            <a:br>
              <a:rPr sz="4800"/>
            </a:b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recapitulare final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3573360"/>
            <a:ext cx="669636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cc"/>
                </a:solidFill>
                <a:latin typeface="Times New Roman"/>
              </a:rPr>
              <a:t>Fiecare fluture are un numă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I0000013"/>
          <p:cNvPicPr/>
          <p:nvPr/>
        </p:nvPicPr>
        <p:blipFill>
          <a:blip r:embed="rId1"/>
          <a:stretch/>
        </p:blipFill>
        <p:spPr>
          <a:xfrm>
            <a:off x="684360" y="1884240"/>
            <a:ext cx="2016000" cy="14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0000013"/>
          <p:cNvPicPr/>
          <p:nvPr/>
        </p:nvPicPr>
        <p:blipFill>
          <a:blip r:embed="rId2"/>
          <a:stretch/>
        </p:blipFill>
        <p:spPr>
          <a:xfrm>
            <a:off x="2771640" y="213372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I0000013"/>
          <p:cNvPicPr/>
          <p:nvPr/>
        </p:nvPicPr>
        <p:blipFill>
          <a:blip r:embed="rId3"/>
          <a:stretch/>
        </p:blipFill>
        <p:spPr>
          <a:xfrm>
            <a:off x="7020000" y="1773360"/>
            <a:ext cx="2124000" cy="1655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 rot="19781400">
            <a:off x="756000" y="76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Times New Roman"/>
              </a:rPr>
              <a:t>3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" descr="I0000013"/>
          <p:cNvPicPr/>
          <p:nvPr/>
        </p:nvPicPr>
        <p:blipFill>
          <a:blip r:embed="rId4"/>
          <a:stretch/>
        </p:blipFill>
        <p:spPr>
          <a:xfrm>
            <a:off x="4859280" y="182880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I0000013"/>
          <p:cNvPicPr/>
          <p:nvPr/>
        </p:nvPicPr>
        <p:blipFill>
          <a:blip r:embed="rId5"/>
          <a:stretch/>
        </p:blipFill>
        <p:spPr>
          <a:xfrm>
            <a:off x="179280" y="600120"/>
            <a:ext cx="1944720" cy="1244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I0000013"/>
          <p:cNvPicPr/>
          <p:nvPr/>
        </p:nvPicPr>
        <p:blipFill>
          <a:blip r:embed="rId6"/>
          <a:stretch/>
        </p:blipFill>
        <p:spPr>
          <a:xfrm>
            <a:off x="2411280" y="620640"/>
            <a:ext cx="1944720" cy="132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I0000013"/>
          <p:cNvPicPr/>
          <p:nvPr/>
        </p:nvPicPr>
        <p:blipFill>
          <a:blip r:embed="rId7"/>
          <a:stretch/>
        </p:blipFill>
        <p:spPr>
          <a:xfrm>
            <a:off x="6443640" y="461880"/>
            <a:ext cx="208908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I0000013"/>
          <p:cNvPicPr/>
          <p:nvPr/>
        </p:nvPicPr>
        <p:blipFill>
          <a:blip r:embed="rId8"/>
          <a:stretch/>
        </p:blipFill>
        <p:spPr>
          <a:xfrm>
            <a:off x="4427640" y="476280"/>
            <a:ext cx="2016000" cy="13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2"/>
          <p:cNvSpPr/>
          <p:nvPr/>
        </p:nvSpPr>
        <p:spPr>
          <a:xfrm rot="19416600">
            <a:off x="611640" y="69192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36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3"/>
          <p:cNvSpPr/>
          <p:nvPr/>
        </p:nvSpPr>
        <p:spPr>
          <a:xfrm rot="20133000">
            <a:off x="2843640" y="6919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ff00"/>
                </a:solidFill>
                <a:latin typeface="Times New Roman"/>
              </a:rPr>
              <a:t>5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 rot="18648000">
            <a:off x="4882680" y="5979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ff00"/>
                </a:solidFill>
                <a:latin typeface="Times New Roman"/>
              </a:rPr>
              <a:t>1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7"/>
          <p:cNvSpPr/>
          <p:nvPr/>
        </p:nvSpPr>
        <p:spPr>
          <a:xfrm rot="19905600">
            <a:off x="7020360" y="475920"/>
            <a:ext cx="113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7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8"/>
          <p:cNvSpPr/>
          <p:nvPr/>
        </p:nvSpPr>
        <p:spPr>
          <a:xfrm rot="19249200">
            <a:off x="1188000" y="198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5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9"/>
          <p:cNvSpPr/>
          <p:nvPr/>
        </p:nvSpPr>
        <p:spPr>
          <a:xfrm rot="19257600">
            <a:off x="3348720" y="1988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 rot="19703400">
            <a:off x="5293080" y="1915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9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1"/>
          <p:cNvSpPr/>
          <p:nvPr/>
        </p:nvSpPr>
        <p:spPr>
          <a:xfrm rot="19336800">
            <a:off x="7668360" y="19159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54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24000" y="3573360"/>
            <a:ext cx="8496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Scrie 3 numere consecu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324000" y="4149720"/>
            <a:ext cx="849600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Scrie numerele impare în ordine descrescătoare: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324000" y="5373720"/>
            <a:ext cx="85690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ff"/>
                </a:solidFill>
                <a:latin typeface="Times New Roman"/>
              </a:rPr>
              <a:t>Scrie numerele care au cifra sutelor cu 4 mai mare decât cifra zecil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5"/>
          <p:cNvSpPr/>
          <p:nvPr/>
        </p:nvSpPr>
        <p:spPr>
          <a:xfrm rot="19915200">
            <a:off x="1618920" y="1699920"/>
            <a:ext cx="1224000" cy="8398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6"/>
          <p:cNvSpPr/>
          <p:nvPr/>
        </p:nvSpPr>
        <p:spPr>
          <a:xfrm rot="14346000">
            <a:off x="1416600" y="2696400"/>
            <a:ext cx="1144800" cy="882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7"/>
          <p:cNvSpPr/>
          <p:nvPr/>
        </p:nvSpPr>
        <p:spPr>
          <a:xfrm rot="19915200">
            <a:off x="324000" y="2707920"/>
            <a:ext cx="1171440" cy="82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8"/>
          <p:cNvSpPr/>
          <p:nvPr/>
        </p:nvSpPr>
        <p:spPr>
          <a:xfrm rot="13386000">
            <a:off x="468000" y="1628280"/>
            <a:ext cx="1197000" cy="935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1258920" y="2349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4716360" y="2133720"/>
            <a:ext cx="3384720" cy="1008000"/>
          </a:xfrm>
          <a:custGeom>
            <a:avLst/>
            <a:gdLst>
              <a:gd name="textAreaLeft" fmla="*/ 1136160 w 3384720"/>
              <a:gd name="textAreaRight" fmla="*/ 2248560 w 3384720"/>
              <a:gd name="textAreaTop" fmla="*/ 126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1297792"/>
                <a:lnTo>
                  <a:pt x="7252" y="274"/>
                </a:lnTo>
                <a:arcTo wR="21600" hR="20153" stAng="-6007164" swAng="1214328"/>
                <a:lnTo>
                  <a:pt x="14348" y="2974"/>
                </a:lnTo>
                <a:arcTo wR="21600" hR="20153" stAng="-4792836" swAng="1297792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760277"/>
                <a:lnTo>
                  <a:pt x="11648" y="16216"/>
                </a:lnTo>
                <a:arcTo wR="21600" hR="20153" stAng="-5255321" swAng="-289359"/>
                <a:lnTo>
                  <a:pt x="9952" y="18916"/>
                </a:lnTo>
                <a:arcTo wR="21600" hR="20153" stAng="-5544679" swAng="-1760277"/>
                <a:lnTo>
                  <a:pt x="2700" y="12271"/>
                </a:lnTo>
                <a:close/>
              </a:path>
              <a:path fill="none" w="21600" h="21600">
                <a:moveTo>
                  <a:pt x="9952" y="16216"/>
                </a:moveTo>
                <a:arcTo wR="21600" hR="20153" stAng="-5544679" swAng="-462485"/>
                <a:lnTo>
                  <a:pt x="9952" y="18916"/>
                </a:lnTo>
              </a:path>
              <a:path fill="none" w="21600" h="21600">
                <a:moveTo>
                  <a:pt x="11648" y="16216"/>
                </a:moveTo>
                <a:arcTo wR="21600" hR="20153" stAng="-5255321" swAng="462485"/>
                <a:lnTo>
                  <a:pt x="11648" y="18916"/>
                </a:lnTo>
              </a:path>
              <a:path fill="none" w="21600" h="21600">
                <a:moveTo>
                  <a:pt x="7252" y="2974"/>
                </a:moveTo>
                <a:lnTo>
                  <a:pt x="7252" y="16474"/>
                </a:lnTo>
              </a:path>
              <a:path fill="none" w="21600" h="21600">
                <a:moveTo>
                  <a:pt x="14348" y="2974"/>
                </a:moveTo>
                <a:lnTo>
                  <a:pt x="14348" y="1647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084720" y="2205000"/>
            <a:ext cx="648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6227640" y="220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 rot="20047800">
            <a:off x="1763280" y="2852280"/>
            <a:ext cx="576360" cy="71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3"/>
          <p:cNvSpPr/>
          <p:nvPr/>
        </p:nvSpPr>
        <p:spPr>
          <a:xfrm rot="15012000">
            <a:off x="1763640" y="1844640"/>
            <a:ext cx="576000" cy="718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90800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5"/>
          <p:cNvSpPr/>
          <p:nvPr/>
        </p:nvSpPr>
        <p:spPr>
          <a:xfrm rot="20047800">
            <a:off x="826920" y="1773000"/>
            <a:ext cx="576360" cy="718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 rot="20601600">
            <a:off x="971640" y="184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8"/>
          <p:cNvSpPr/>
          <p:nvPr/>
        </p:nvSpPr>
        <p:spPr>
          <a:xfrm rot="2554200">
            <a:off x="684000" y="2708280"/>
            <a:ext cx="576000" cy="72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755640" y="27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5292720" y="2349360"/>
            <a:ext cx="43344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292720" y="2349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7093080" y="2349360"/>
            <a:ext cx="43308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093080" y="234936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Scrie toate numerele naturale de 3 cifre ce se pot forma cu ajutorul cifrelor de mai s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179280" y="3789360"/>
            <a:ext cx="41767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4788000" y="3789360"/>
            <a:ext cx="3887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Times New Roman"/>
              </a:rPr>
              <a:t>Găseşte cifrele care lipses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119700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360" y="119700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116000" y="119700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763640" y="981000"/>
            <a:ext cx="7129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Times New Roman"/>
              </a:rPr>
              <a:t>Cifra zecilor este cu 3 mai mare decât cifra unităţilor, iar cifra sutelor este suma zecilor şi unităţ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50920" y="1916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84360" y="191628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116000" y="1916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763640" y="1773360"/>
            <a:ext cx="712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ifra unităţilor este cu 3 mai mică decât cifra zecilor, iar cifra sutelor este cu 7 mai mare decât cifra unităţi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5092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436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1600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763640" y="2565360"/>
            <a:ext cx="6912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Times New Roman"/>
              </a:rPr>
              <a:t>Cifra zecilor este cu 2 mai mare decât cifra sutelor, iar cifra unităţilor este identică cu cifra sute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324000" y="3933720"/>
            <a:ext cx="8496000" cy="211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66"/>
                </a:solidFill>
                <a:latin typeface="Times New Roman"/>
              </a:rPr>
              <a:t>Scrie cel mai mare număr de 3 cifre care îndeplineşte condiţiile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a) este mai mic decât 750;                                                                b) are suma cifrelor 20;                                                                      c) cifra zecilor este cel mai mare număr de o cifr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Răspu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1547640" y="2205000"/>
            <a:ext cx="2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1547640" y="299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547640" y="1413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Times New Roman"/>
              </a:rPr>
              <a:t>Descompune numerele date în sute , zeci şi unităţ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71640" y="1197000"/>
            <a:ext cx="1512720" cy="91440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 rot="11066400">
            <a:off x="1042200" y="2133360"/>
            <a:ext cx="1368360" cy="9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 rot="16200000">
            <a:off x="473040" y="1622160"/>
            <a:ext cx="1335240" cy="10587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 rot="5905200">
            <a:off x="1629720" y="1617840"/>
            <a:ext cx="1407960" cy="99828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403280" y="184464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332000" y="134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7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979640" y="1844640"/>
            <a:ext cx="8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 rot="11363400">
            <a:off x="683640" y="1556640"/>
            <a:ext cx="66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2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332000" y="242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987640" y="981000"/>
            <a:ext cx="41767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987640" y="1628640"/>
            <a:ext cx="417672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987640" y="2276640"/>
            <a:ext cx="4176720" cy="579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987640" y="2924280"/>
            <a:ext cx="41767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250920" y="3645000"/>
            <a:ext cx="8713800" cy="1503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Scrieţi toate numerele naturale de la 0 la 100 care au cifra zecilor egală cu dublul cifrei unităţilor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50920" y="5300640"/>
            <a:ext cx="85690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cc"/>
                </a:solidFill>
                <a:latin typeface="Times New Roman"/>
              </a:rPr>
              <a:t>Câte numere de 3 cifre identice există?                     Răsp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12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Subliniază numărul mai mare din fiecare pereche de num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10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cc00ff"/>
                </a:solidFill>
                <a:uFillTx/>
                <a:latin typeface="Times New Roman"/>
              </a:rPr>
              <a:t>525</a:t>
            </a: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 şi 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484360" y="10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747 şi 7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42764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854 şi 8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443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911 şi 8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68360" y="17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234 şi 2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55600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98 şi 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4427640" y="1700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303 şi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372360" y="17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170 şi 1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79280" y="2421000"/>
            <a:ext cx="8713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Times New Roman"/>
              </a:rPr>
              <a:t>Rotunjeşte la zeci numere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0" y="306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6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684360" y="3357720"/>
            <a:ext cx="4316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116000" y="3068640"/>
            <a:ext cx="71928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908000" y="3068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7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2556000" y="3357720"/>
            <a:ext cx="4334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987640" y="3068640"/>
            <a:ext cx="7207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370836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2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4284720" y="3357720"/>
            <a:ext cx="4316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716360" y="3068640"/>
            <a:ext cx="71928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7236000" y="306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7885080" y="3357720"/>
            <a:ext cx="36036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8244000" y="2997360"/>
            <a:ext cx="7207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508720" y="306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4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1"/>
          <p:cNvSpPr/>
          <p:nvPr/>
        </p:nvSpPr>
        <p:spPr>
          <a:xfrm>
            <a:off x="6156360" y="3357720"/>
            <a:ext cx="36036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516720" y="3141720"/>
            <a:ext cx="720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250920" y="3860640"/>
            <a:ext cx="8642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Times New Roman"/>
              </a:rPr>
              <a:t>Scrieţi vecinii numerel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324000" y="4653000"/>
            <a:ext cx="720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3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1187280" y="4653000"/>
            <a:ext cx="7207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205092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3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3419640" y="4653000"/>
            <a:ext cx="718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1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4284720" y="4653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148360" y="4653000"/>
            <a:ext cx="718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2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817236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7308720" y="4653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644364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24000" y="5445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334800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421164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7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507672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6372360" y="5445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730872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817236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0"/>
          <p:cNvSpPr/>
          <p:nvPr/>
        </p:nvSpPr>
        <p:spPr>
          <a:xfrm>
            <a:off x="197964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111600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5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Scrieţi toate numerele naturale mai mari decât 679 şi cel mult egale cu 683.</a:t>
            </a:r>
            <a:br>
              <a:rPr sz="2800"/>
            </a:br>
            <a:r>
              <a:rPr b="1" lang="ro-RO" sz="2800" spc="-1" strike="noStrike">
                <a:solidFill>
                  <a:srgbClr val="ff00ff"/>
                </a:solidFill>
                <a:latin typeface="Times New Roman"/>
              </a:rPr>
              <a:t>Răsp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50920" y="1773360"/>
            <a:ext cx="856908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Care sunt următoarele 3 num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395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836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48436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03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2411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4572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5580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48436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250920" y="3357720"/>
            <a:ext cx="864216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Scrie numerele care lipsesc în locurile în locurile marcate pe ax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979640" y="386064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 flipV="1">
            <a:off x="324000" y="4220640"/>
            <a:ext cx="8569080" cy="73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539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33200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212400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2987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5"/>
          <p:cNvSpPr/>
          <p:nvPr/>
        </p:nvSpPr>
        <p:spPr>
          <a:xfrm>
            <a:off x="385128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7"/>
          <p:cNvSpPr/>
          <p:nvPr/>
        </p:nvSpPr>
        <p:spPr>
          <a:xfrm>
            <a:off x="464328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8"/>
          <p:cNvSpPr/>
          <p:nvPr/>
        </p:nvSpPr>
        <p:spPr>
          <a:xfrm>
            <a:off x="543564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8459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774072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2000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43"/>
          <p:cNvSpPr/>
          <p:nvPr/>
        </p:nvSpPr>
        <p:spPr>
          <a:xfrm>
            <a:off x="6227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5"/>
          <p:cNvSpPr/>
          <p:nvPr/>
        </p:nvSpPr>
        <p:spPr>
          <a:xfrm flipH="1">
            <a:off x="1785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6"/>
          <p:cNvSpPr/>
          <p:nvPr/>
        </p:nvSpPr>
        <p:spPr>
          <a:xfrm flipH="1">
            <a:off x="104220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7"/>
          <p:cNvSpPr/>
          <p:nvPr/>
        </p:nvSpPr>
        <p:spPr>
          <a:xfrm flipH="1">
            <a:off x="2626560" y="4437000"/>
            <a:ext cx="71604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8"/>
          <p:cNvSpPr/>
          <p:nvPr/>
        </p:nvSpPr>
        <p:spPr>
          <a:xfrm flipH="1">
            <a:off x="1763640" y="4437000"/>
            <a:ext cx="71928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3492360" y="44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0"/>
          <p:cNvSpPr/>
          <p:nvPr/>
        </p:nvSpPr>
        <p:spPr>
          <a:xfrm flipH="1">
            <a:off x="428472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 flipH="1">
            <a:off x="507672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2"/>
          <p:cNvSpPr/>
          <p:nvPr/>
        </p:nvSpPr>
        <p:spPr>
          <a:xfrm flipH="1">
            <a:off x="586728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 flipH="1">
            <a:off x="665964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4"/>
          <p:cNvSpPr/>
          <p:nvPr/>
        </p:nvSpPr>
        <p:spPr>
          <a:xfrm flipH="1">
            <a:off x="745164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 flipH="1">
            <a:off x="810108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 flipV="1">
            <a:off x="250920" y="5589720"/>
            <a:ext cx="8713800" cy="72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7"/>
          <p:cNvSpPr/>
          <p:nvPr/>
        </p:nvSpPr>
        <p:spPr>
          <a:xfrm>
            <a:off x="468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58"/>
          <p:cNvSpPr/>
          <p:nvPr/>
        </p:nvSpPr>
        <p:spPr>
          <a:xfrm>
            <a:off x="133200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9"/>
          <p:cNvSpPr/>
          <p:nvPr/>
        </p:nvSpPr>
        <p:spPr>
          <a:xfrm>
            <a:off x="219564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0"/>
          <p:cNvSpPr/>
          <p:nvPr/>
        </p:nvSpPr>
        <p:spPr>
          <a:xfrm>
            <a:off x="305928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1"/>
          <p:cNvSpPr/>
          <p:nvPr/>
        </p:nvSpPr>
        <p:spPr>
          <a:xfrm>
            <a:off x="3924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62"/>
          <p:cNvSpPr/>
          <p:nvPr/>
        </p:nvSpPr>
        <p:spPr>
          <a:xfrm>
            <a:off x="478800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3"/>
          <p:cNvSpPr/>
          <p:nvPr/>
        </p:nvSpPr>
        <p:spPr>
          <a:xfrm>
            <a:off x="572436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4"/>
          <p:cNvSpPr/>
          <p:nvPr/>
        </p:nvSpPr>
        <p:spPr>
          <a:xfrm>
            <a:off x="658800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66"/>
          <p:cNvSpPr/>
          <p:nvPr/>
        </p:nvSpPr>
        <p:spPr>
          <a:xfrm>
            <a:off x="752472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67"/>
          <p:cNvSpPr/>
          <p:nvPr/>
        </p:nvSpPr>
        <p:spPr>
          <a:xfrm>
            <a:off x="8388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8"/>
          <p:cNvSpPr/>
          <p:nvPr/>
        </p:nvSpPr>
        <p:spPr>
          <a:xfrm>
            <a:off x="17928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9"/>
          <p:cNvSpPr/>
          <p:nvPr/>
        </p:nvSpPr>
        <p:spPr>
          <a:xfrm>
            <a:off x="971640" y="59500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0"/>
          <p:cNvSpPr/>
          <p:nvPr/>
        </p:nvSpPr>
        <p:spPr>
          <a:xfrm flipH="1">
            <a:off x="1834560" y="5877000"/>
            <a:ext cx="71892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1"/>
          <p:cNvSpPr/>
          <p:nvPr/>
        </p:nvSpPr>
        <p:spPr>
          <a:xfrm flipH="1">
            <a:off x="270036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 flipH="1">
            <a:off x="3563280" y="5877000"/>
            <a:ext cx="71892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3"/>
          <p:cNvSpPr/>
          <p:nvPr/>
        </p:nvSpPr>
        <p:spPr>
          <a:xfrm flipH="1">
            <a:off x="442908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4"/>
          <p:cNvSpPr/>
          <p:nvPr/>
        </p:nvSpPr>
        <p:spPr>
          <a:xfrm flipH="1">
            <a:off x="536400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5"/>
          <p:cNvSpPr/>
          <p:nvPr/>
        </p:nvSpPr>
        <p:spPr>
          <a:xfrm flipH="1">
            <a:off x="622764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6"/>
          <p:cNvSpPr/>
          <p:nvPr/>
        </p:nvSpPr>
        <p:spPr>
          <a:xfrm flipH="1">
            <a:off x="716580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7"/>
          <p:cNvSpPr/>
          <p:nvPr/>
        </p:nvSpPr>
        <p:spPr>
          <a:xfrm flipH="1">
            <a:off x="802800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529080" cy="345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179280" y="354492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 rot="3874800">
            <a:off x="715680" y="6591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3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 rot="19425000">
            <a:off x="2124360" y="188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7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84328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 rot="2958600">
            <a:off x="1635840" y="28170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6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 rot="19709400">
            <a:off x="468720" y="134100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995640" y="189000"/>
            <a:ext cx="4826160" cy="18104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ff"/>
                </a:solidFill>
                <a:latin typeface="Times New Roman"/>
              </a:rPr>
              <a:t>Scrie răsturnatul fiecărui număr de pe flo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211640" y="3573360"/>
            <a:ext cx="4681440" cy="181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Scrie succesorul fiecărui număr de pe flo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 rot="20925600">
            <a:off x="2268360" y="3715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5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059280" y="486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 rot="2270400">
            <a:off x="610560" y="407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6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 rot="20539800">
            <a:off x="395640" y="494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4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1"/>
          <p:cNvSpPr/>
          <p:nvPr/>
        </p:nvSpPr>
        <p:spPr>
          <a:xfrm rot="3595200">
            <a:off x="1563840" y="606744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3"/>
          <p:cNvSpPr/>
          <p:nvPr/>
        </p:nvSpPr>
        <p:spPr>
          <a:xfrm flipH="1">
            <a:off x="1332000" y="2133720"/>
            <a:ext cx="576000" cy="718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395280" y="2781360"/>
            <a:ext cx="1008000" cy="64764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835280" y="1484280"/>
            <a:ext cx="431640" cy="358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8"/>
          <p:cNvSpPr/>
          <p:nvPr/>
        </p:nvSpPr>
        <p:spPr>
          <a:xfrm>
            <a:off x="1619280" y="4724280"/>
            <a:ext cx="914400" cy="7923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1763640" y="4869000"/>
            <a:ext cx="649440" cy="576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826920" y="5661000"/>
            <a:ext cx="936720" cy="119700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763640" y="1341360"/>
            <a:ext cx="64764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908000" y="1484280"/>
            <a:ext cx="360360" cy="2890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020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ff"/>
                </a:solidFill>
                <a:latin typeface="Times New Roman"/>
              </a:rPr>
              <a:t>Uneşte fiecare număr dat cu numărul format numai din sute de care este cel mai apropi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851280" y="126828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851280" y="198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851280" y="486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851280" y="270828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51280" y="342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851280" y="414972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3851280" y="5661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95280" y="126828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443640" y="126828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7164360" y="364500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755640" y="407664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4000" y="314172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611280" y="530064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7164360" y="537372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308720" y="458136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667640" y="278136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7308720" y="206064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3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900000" y="227664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3"/>
          <p:cNvSpPr/>
          <p:nvPr/>
        </p:nvSpPr>
        <p:spPr>
          <a:xfrm>
            <a:off x="1187280" y="1413000"/>
            <a:ext cx="2592720" cy="2087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suioc Ioan</dc:creator>
  <dc:description/>
  <dc:language>en-US</dc:language>
  <cp:lastModifiedBy>asd</cp:lastModifiedBy>
  <dcterms:modified xsi:type="dcterms:W3CDTF">2009-04-10T06:13:17Z</dcterms:modified>
  <cp:revision>54</cp:revision>
  <dc:subject/>
  <dc:title>Numere naturale mai mari dec\t 1000 (recapitulare)</dc:title>
</cp:coreProperties>
</file>